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</p:sldMasterIdLst>
  <p:notesMasterIdLst>
    <p:notesMasterId r:id="rId60"/>
  </p:notesMasterIdLst>
  <p:sldIdLst>
    <p:sldId id="256" r:id="rId61"/>
    <p:sldId id="257" r:id="rId62"/>
    <p:sldId id="258" r:id="rId63"/>
    <p:sldId id="259" r:id="rId64"/>
    <p:sldId id="260" r:id="rId65"/>
    <p:sldId id="261" r:id="rId66"/>
    <p:sldId id="262" r:id="rId67"/>
    <p:sldId id="263" r:id="rId68"/>
    <p:sldId id="264" r:id="rId69"/>
    <p:sldId id="265" r:id="rId70"/>
    <p:sldId id="266" r:id="rId71"/>
    <p:sldId id="267" r:id="rId72"/>
    <p:sldId id="268" r:id="rId73"/>
    <p:sldId id="269" r:id="rId7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notesMaster" Target="notesMasters/notesMaster1.xml"/><Relationship Id="rId61" Type="http://schemas.openxmlformats.org/officeDocument/2006/relationships/slide" Target="slides/slide1.xml"/><Relationship Id="rId62" Type="http://schemas.openxmlformats.org/officeDocument/2006/relationships/slide" Target="slides/slide2.xml"/><Relationship Id="rId63" Type="http://schemas.openxmlformats.org/officeDocument/2006/relationships/slide" Target="slides/slide3.xml"/><Relationship Id="rId64" Type="http://schemas.openxmlformats.org/officeDocument/2006/relationships/slide" Target="slides/slide4.xml"/><Relationship Id="rId65" Type="http://schemas.openxmlformats.org/officeDocument/2006/relationships/slide" Target="slides/slide5.xml"/><Relationship Id="rId66" Type="http://schemas.openxmlformats.org/officeDocument/2006/relationships/slide" Target="slides/slide6.xml"/><Relationship Id="rId67" Type="http://schemas.openxmlformats.org/officeDocument/2006/relationships/slide" Target="slides/slide7.xml"/><Relationship Id="rId68" Type="http://schemas.openxmlformats.org/officeDocument/2006/relationships/slide" Target="slides/slide8.xml"/><Relationship Id="rId69" Type="http://schemas.openxmlformats.org/officeDocument/2006/relationships/slide" Target="slides/slide9.xml"/><Relationship Id="rId70" Type="http://schemas.openxmlformats.org/officeDocument/2006/relationships/slide" Target="slides/slide10.xml"/><Relationship Id="rId71" Type="http://schemas.openxmlformats.org/officeDocument/2006/relationships/slide" Target="slides/slide11.xml"/><Relationship Id="rId72" Type="http://schemas.openxmlformats.org/officeDocument/2006/relationships/slide" Target="slides/slide12.xml"/><Relationship Id="rId73" Type="http://schemas.openxmlformats.org/officeDocument/2006/relationships/slide" Target="slides/slide13.xml"/><Relationship Id="rId74" Type="http://schemas.openxmlformats.org/officeDocument/2006/relationships/slide" Target="slides/slide14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dt" idx="8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ftr" idx="9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 type="sldNum" idx="9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506C-2504-4F75-9343-A1617BA1A6E6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79DA-E1F7-4C77-8853-1686767BA637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QIA 2006. All rights reserved</a:t>
            </a:r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3495-4677-4C54-BAB5-63CB7EDCC6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845-46B5-4C9E-B1A8-F3632288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66C-AC5B-4CF5-99CD-96599B80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34E9-BDE8-48D4-A40C-D27D583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91369-C6FB-40B7-8183-353D643B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BB937-F62B-4B65-BAB9-94E1111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DDB4-38FE-4D75-9BC0-C1FBCD4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1B5E-BD5C-426A-95CA-2FA9EE5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695F8-85AE-4346-8E60-9DCD01A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1E33E-B271-4B4E-AC6B-3473C70E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21DC7-B024-40EE-9557-AFEEF889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7F01-82B0-4958-BC67-7F3F5397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492-CBBF-4B6B-A47F-DD3CAAFA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931-7F54-45B0-A0D0-D6BDEBE9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9308-6555-4407-8274-1E67DEEB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7C4CA-2A08-48D1-BE5D-0FB82C63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ECE8-DC5E-4EA0-BC65-3B7E89B0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038D7-CFAC-47FD-8E0C-004FD54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CC6D6-BA8B-4EA4-B91F-2DD2CC9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FF57-FEBF-4504-8B6B-11977058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94942-9EE4-4E2B-ABB2-72975D0C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11ABD-C2EE-498F-8082-9EBFE7C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ACE-B279-43AD-8014-5673FC69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F144-5784-410D-A304-37E1AE14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A978F-6807-4617-ACD1-A0A05912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B49F-D564-45CD-B391-A50BA69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ABA6A-FC83-4C7B-8602-97AEEAA6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FE9D-BA9F-4D42-A46F-0137E8AA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58D53-6814-429F-BB40-72D05916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787BD-96D8-4118-ABDE-7BAA4CF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ED5F-0EF1-4542-ABB9-A9FF52BA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E0E3-1A06-4073-8338-89A72A8C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162E-6144-4E25-93D1-65704E69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9BD6-C0DF-44FD-8B66-DC45D543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257B8-53CD-4F3B-88DD-1B60DB8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F476-1239-42FC-95A6-5515CE31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DA050-507D-41B4-91E2-BFD1D84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E99F-7673-480A-B545-AAD1748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857B-4839-431B-96CE-69DD094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83814-D949-4150-ADF2-ECDE491E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B0EE-A125-4C4F-886B-A0526C35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7C59C-F628-4D32-852B-556A3578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F7AC-6C97-4D1D-B50A-4BFAFB9A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E6D6-2171-43F7-A274-19C80CB0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DCC5-17ED-4DCE-8FC0-FD8162D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34139-BB4E-49F8-9BFF-8EA3067A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6290E-C561-4D22-87E4-79CCAA44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D557A-AB81-4785-99F8-34A5FB8A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F62E-E652-43C6-BDB5-C3AF5B2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8BDE-6D1E-4CFB-9BC1-1935981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CB631-BF54-45D6-89FC-63FC98F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E2FD5-93FD-4D91-87E4-7CF22814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99C5F-5516-4818-82E7-30E8899B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7E908-CD41-4F34-80E2-5FD118CF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3DC02-8B47-4339-BB2F-78A55DA7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B874-AF65-49DB-9000-3E21C7E9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9692E-12FD-461D-9F13-B5821A26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5DFB6-E0C7-4A7B-89A6-18143617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5E629-AD91-4746-B490-E2EDF12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B48E5-A2F2-4581-B048-E931748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FFC4B-E1EC-493A-83BA-34D40FB5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74054-D08C-4EC9-80C4-B79E880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63F9-2EED-431D-9DE2-DBCB4D1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5D63D-FA07-4969-A324-6018B49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2A774-D98F-4231-8320-D92E713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C32AD-1857-4799-B886-DCEE5555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4973-817A-41F1-B3EA-652C86AE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41E58-B8D8-481F-9EF2-65A8488B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6794B-07D3-48A0-8A59-D00FD29E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B1DFD-BBBD-4AFC-AA77-8E6281CC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A87CE-9783-44B3-B2C9-7BA2ED2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14FFA-2295-41FB-9544-8AC575AE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52873-A898-4E4A-A6E3-FB06702C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AC5A0-91AB-4ECC-BFED-882C2A0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00332-AC6D-4A61-A373-CC046A2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45F6B-480A-4C93-A392-0E304AD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8B5D2-BBF7-4BC9-8E49-3593BF8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C71C-354B-4E1A-A886-5AC703A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448CA-87EE-474C-8912-C976BDA6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EA07-3463-474D-B3D6-3D9B30D2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32431-A1F6-4D9C-B783-75A59699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658-5E40-493C-A2C3-4D24945C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031E-8302-4FAD-A813-9944FEF2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B89D-1A7C-459E-8ABB-E255390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D1B1-87E1-4047-AAB5-4ED3D683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40F2-F3DA-41AC-AD94-51CBC6BD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4E0E-AF36-40D4-B776-D0468772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27F3-3DD5-4BE5-ACC8-7464A742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D500-14D8-4648-BDF4-388F286A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BA8F5-62FD-44D0-BB3D-9C7F9F85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3C130-0F46-4A16-871B-36EB0587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643A2-E956-44BF-AB7F-54A9276D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501A1-C8E4-4AE8-8AA3-28FD2238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CB052-8B6F-4472-BEF0-BD3DE45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2998-BA66-4BF0-96AC-9FAD5508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4EF1C-0FE4-41F2-BC2B-048FAE9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4CD98-4FC7-4220-ADB6-9ECC380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7AE2D-0169-4DA9-8F6B-479D87F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292F5-7520-4564-A989-65509028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4B784-BBEF-48C4-92DF-B4D769FD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023CA-3C53-4C76-BDA4-F601B0D5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3DCB2-F8A3-4CC4-8E05-8945729F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822F4-24A1-4039-8B7D-5E7E839B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BDB9-1B0D-47FB-A6A2-CB552070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F4A-FA92-4374-B212-870AC9DA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D684-9F70-4B4C-86E9-2BE379B5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1EDD-3156-4E20-BEE1-65651D5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26DAC-FFE3-486D-B5FE-6F76C863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0B5D7-43E7-48A1-9554-897D43BB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65294-F0EE-4285-B46E-3CC50A9A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9334F-1AAA-46FF-A158-637619DA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86938-F1E8-4120-BA68-225477DB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E624B-E85F-49C7-BE5E-080D6AAA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D7183-D7D7-4773-86D1-856CF41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184C-A865-4029-8AA0-BC3C532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8D431-A42F-4EDD-BB4C-36C9043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34906-D1F4-4C66-9C47-90E1EA5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A9C05-A584-4D96-B608-28302303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F54E1-EE82-44F8-877F-91E9F66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2166C-7A70-4999-A16A-8BD50339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D7427-1DC6-4581-9889-1D8266F7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B1310-7739-49DE-A23B-06079859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4AE74-858E-421E-9848-E9CB2EB0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4D3C0-CA03-45E7-8C45-8276FEC0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81505-686B-4D33-AB88-27A2D940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9CAE-A7C6-46B8-B82C-94011D6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BCCF6-0FE9-4EF4-9E92-F5656B4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C3B08-9674-478F-A689-3B4B913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F8C57-1465-48C4-B92B-89F6B20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AC7A0-BBF3-4572-B4C9-EDD9CF3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4B87F-067A-407C-8B9C-3D4B68A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CFCDD-F994-4223-B2B4-A2286AEF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65B70-AEE1-4D00-BAAA-BB24062D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568B4-664F-4F21-B882-922C6B92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AB171-CD01-411F-9664-344A30D1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18A66-C46F-4309-AD78-CC9528C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7167-DB9F-486F-9FA2-84592FEB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DC5CB-BD31-478D-B590-86BCD81F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82E98-1929-4BED-BFF2-F2F0F191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120E1-D656-46B4-A9DB-729700E0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AA9F1-D439-43B8-951E-9CB8A07E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83BF0-8AD4-412E-9B03-C264E53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65BE9-1D0F-4BD2-8CEA-8CCDE31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0BA8F-A45F-49AD-90CE-7017A9A3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37B8E-187D-4CAB-AE01-EF96FE13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FFFC5-4B5D-4B7E-B6EA-BAF7220A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EC612-411B-4C77-B768-C6F28DA1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ED2B-3AC2-4DAD-AB45-C29C938B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C2A48-10F5-4535-ABCD-2FA89ACD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39627-FF06-4D8A-BEF7-736B6A1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8BCEE-1B74-4A37-97E7-F54897F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40A22-1049-46EA-AD96-A48819C4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D2716-E02E-450D-91DD-440E8DAA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765C0-D5FE-4FC1-946F-5E9058A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2DB4D-C5B3-4D40-8800-E0E3582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488BF-CEA2-440B-9FB0-AA24924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388EB-A72B-4781-9239-F0FA7BB6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BE051-A5E0-4DC8-90A2-C4044069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887C-AFB2-4168-A594-17E6DAD1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6D72E-3CE1-48AB-88A5-7E0A50C7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4C7-5308-4FDB-A138-32F00BF9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2C418D-AD06-4C94-9B9F-F1F4F10C36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7B13AC-9BCE-4842-ACA7-CC8E45C0F5B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E7255B-92A5-473A-AF1D-4CC28BFAD7F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439B2F-11EA-4BA2-8931-4EB45048CA8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F1122D-3772-47EB-A99B-815599F4ED7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97140B-80AF-4222-8EEA-2BA12AA260E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57904D-5A16-42B2-8CD0-B8B955E39AD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4B4A99-4B23-40F3-848C-043094DAD50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463A31-2E9D-49DD-B4B1-EB890C2C988A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A32CC7-137A-4E05-8601-CEBCB8A6BC7F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1F53D9-9074-49F7-A230-6E6D33F293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2D0C3C-0290-4491-88AD-6298C901A4BD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C7BD-0B75-4193-BF3E-53E017F6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935EEF-63FD-481C-9CE0-FBE42B2D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B330BC-5A94-4BF2-ADF1-16608E75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B1BB201-B711-4980-B319-3B1485C1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B46E1D-D4D2-4390-BCCB-8B38B21B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A9DB4B3-053B-4CAA-8863-8AD54A7A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592E00-9483-4B42-958F-0C81724B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ACA3BE-1817-45C1-ADCA-F66A32B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A8F-5A3F-42CC-B9A0-2AFD14EC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4633-B5EB-414C-8618-B64A8B3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D549D8-3B96-4B05-9EA7-446DF6C9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B57A36-6D66-4243-819E-BFD417D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D4116D-BC5F-4B63-ABE2-108452C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4585622-ED76-4614-BAFF-2248CA91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98B12D-6D3A-4BDB-B29F-9EB9F419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2689FF-5649-4053-85CE-8934B4CA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F80755-A925-4F2C-A81E-FA71BB9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DC33EE-7B14-4BC1-9E84-CB50C259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913CD4-FFE5-40E2-898A-172820E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2296C08-AAF7-4D1E-8BBF-D662E1D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8ECD-04B0-403F-98CB-B200EEEE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A88A0E-E634-4045-B039-BB2F9F60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9D91D8-CD20-40E1-9EAA-85B785C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FD8FC1-BE48-4862-8094-90E8578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D28E42-A881-48DD-A5C6-0D625CE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2395D5-08FC-4453-BABF-E4100E88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D40132-4D3D-4834-AAA6-762F447C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E88128-B6D4-458C-A48C-F0336760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4E86BB-7D03-47A0-9A98-E3CA0742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6505BD-F437-4000-BBF6-7BFC624A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3FF0E6-7419-4E94-9F82-E900074F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CA49-305E-4840-AACD-7424EEDD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681652-604A-4308-BFDD-436BB985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5066E7-FE59-469F-A176-FB62967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3999FD-5676-48B2-8C0A-4B66A669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1C0534-C203-44A4-B5A0-B95C62A5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98323A-092A-4937-90B9-A44DCA6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1EE2959-D7E2-4E1B-A6CA-371BDD31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63373B-0619-48E3-804C-B42F566A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FFE5D3-4AE4-42C8-9AAC-B6BA47AC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9EF1D4-4B76-4F89-83CF-6E3748D2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6725-4867-47D1-9E24-7D9BE1C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0969-2B48-4ACD-9FBC-F55D7A11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6624-ECB9-4AD7-B38C-A32F462E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9334-CAA6-4AEE-9E8C-E648FE2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2E4E22-7B28-41A3-A597-74723CE6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03F04C-C79D-4A4F-BED1-080AF218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8DB3AA-8685-4E6B-A578-30F8BD47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A72AD56-8F78-4183-91BD-0E54C9A1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6D91D5-0996-4215-B170-D695FF79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6364-B55C-48C5-B6E3-AAEE9FE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C2191D-A91F-4065-8D64-8558D3D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F91EE2-BEA0-4814-A8C9-DEE13E8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EBCA66-2B58-420F-8AFE-6272889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D46C75-E3F8-4B90-98DE-EB3FD1B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BA96C7-7B1B-4046-BBFE-E198A130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ED66BB-50F7-47F9-9EC6-14AD7686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89A806-61E0-4E8A-A598-E4BC74D9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E6B42CB-9634-4B94-83C0-97813E4B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100CBB-3705-4C15-AFA5-ED7BE04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415D0B-B509-4599-B576-DF0DFC9D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7483-0B1F-4CA3-A31D-A90C6EBE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D26E2A-3EFE-4C60-B7EC-AA22B970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9681C56-D98E-4079-976A-D0CF835F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029759-E669-48FA-B5D9-2452868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1B661A-362C-4B2B-8FEB-5F17AD89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14A045-F1B2-49CD-8D0F-23020406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B58423-A58C-42E3-953C-44F5C008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157737-2D5D-4F15-8736-FFA78642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751A68-8709-42C7-83B5-11BED0EA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38B84F-18CD-4BB7-9CBD-4D3F74FB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AD26BF-812E-4D2C-A4FB-089D58A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5826-DCC7-45B8-A5A1-DC3470CF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B64570-94BB-4648-A101-6DE923D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DB97563-1C40-404E-BCD8-859EBA6C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6F4DFF4-BE65-45FF-A54B-989338B2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A77C89E-E0B2-4D15-8AC2-B815E191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5C91C03-3E5D-4DED-8F62-0C1D2D7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65E1C4-ED2E-47BE-8742-F4E6E34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72E5D3-DB48-4367-B638-4552B2B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420A40-2212-4F8C-8093-27BAD78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957C39-6A87-4ED1-8504-03C22249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4E72B3F-0452-40A8-95B7-84D34C2C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CED-7A1F-4F51-97BD-DB74FF42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7F13-7C79-4472-BA46-102E5492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0B0192-B0CA-4F3D-BE36-C5062F9F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F3ED586-70A5-4BB0-98B2-E7B5B0E2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40D489-08B5-41E5-AC9A-FEBEFE78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4D682A-D6F9-48EC-B231-17B81691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77DA988-7015-46D4-A3FB-A15DEB6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DE42CD-9A73-4D45-BE22-C898C64F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6717AE0-F774-4E44-BEEF-22F71A57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D4DACED-0700-4EFD-8A1B-2B09D19F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7B3F030-D913-4148-AF89-01B316C3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BC24916-61AE-4716-BA3D-3E43F1E1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357867-0023-41AA-8DFB-8884423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A8EF87E-1EE7-41DB-BF24-4BAE76EF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CD12E9E-5D94-4307-99E5-BC4B45CE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A95F841-F989-4BB0-A66E-088FBB23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DC7E20-4355-400E-85DC-378D7142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CB3FA6-8971-4F68-9E94-A773EEEB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A173B3-F060-4768-A290-C00131FE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3465FA-D2A8-42A1-B6EF-D9A53157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DE8F8A-7F36-43B8-8FEF-EDDC818C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0AB904E-14EC-45E7-A57A-8889840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3191850-6768-4A47-9E25-5163BD3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CE3D46-BD87-4CCC-86E4-4A519D3E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B208C6-91D2-4F46-A136-29F5AE8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E2CE4D-1D6A-42EA-8B2E-4302128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E539312-5F40-4C47-87C4-0F9B748F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EFCE545-2E36-41F7-933D-5818CB21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3F5C7E-9806-4953-B8D1-6613060D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6B88888-2D15-4159-934F-0535F263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8C95C7-B059-4EB4-B85B-FAACEA04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4E947B3-4CFC-42FA-8C49-1073E9B5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D776C5-B943-4675-85BC-70D47FE4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7736C6-9325-415E-9F6D-7DE5B15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C3B7A3-48F7-436E-84C8-400D86F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7C421B7-FF81-4A69-B8F3-9F21C50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B190A5-A116-44BF-93C1-A13048E6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FE1A1F-5D5A-4B7E-A33C-EF7CAC60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05CE84-D880-49E2-92AA-F8DC01F2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37D6998-6340-43A5-9E79-A37F9C96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0DD6232-04FC-4BE0-8223-26457FC1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5F4465-3FB3-4DF4-8733-96EF7378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88CA42-AFD8-44E5-A78D-774997DF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6B9753-8B99-4537-863A-91915877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E8602EC-0BD5-45B9-9D2D-352DCE6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AC62D53-9989-4F2E-8BF0-518C4FA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BB3C18E-39A3-4543-B3DB-7978DA0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1DAEB03-89A8-49F9-B181-E5BA7C72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379EFBC-732D-4A99-A933-9B423409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62C8FCF-5ABE-4875-837C-29AEC5EB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ECDCE7F-5E09-4130-9D45-DAE335F2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E3261E2-4CCA-4DB3-9AAB-C584B78A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B67884C-697A-4FE2-AF28-B3C6D787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505D986-BA96-4338-A8A8-2C95EF4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55F09D7-D90E-40C6-AA9B-94BFDE4C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E987A26-8E1D-4585-9FA2-22640AA5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45B63F2-8BA5-4D70-BF77-D936F36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D37D168-C8F2-4541-9584-CD548F0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6644F0D-E403-4667-BAB7-31770F9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C9ADEB-AE3D-4086-8F18-02AB1C1E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F0AF654-0F57-48B8-B7A8-C56F31E2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BFE54B5-7546-47FF-A529-6C3E5262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CE159E5-1C94-4943-B477-B85313A2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4A0D088-A6CA-4A0E-B3A4-CE224D3A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CE9F02-3B1E-4883-A876-2D7A5BB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72F5C23-43DB-4132-8DCB-7B6D56E5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DAA1470-FE0B-4B2A-B78F-5B9B578A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F814451-8FF1-47D5-94D7-9C0DC640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0ED831-E66D-4496-9DF7-1D58F07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BA1194-1C92-452C-BB2F-F22B2EAE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38356F-0B68-4775-AE0D-72733D2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F4A622-F9A8-4243-AF14-F4D7189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B213CE0-0B2B-43F7-B0CB-ED8CC21D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7C3F05-E35F-4302-B92D-90A598D9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65BCD40-A8ED-4BAA-A123-55B2C37D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C966032-AA7F-43E1-9CD2-7ECF9692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5D08DDC-97A2-421A-B991-59CC8DC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2CB0731-6E82-4B6A-82B1-5E149CF4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EC64965-3C41-4AF9-8E46-E62FB929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F315C56-186F-479F-AA35-C9885EE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1FE5B7D-6D62-4258-BB7D-4191E5C3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2455DE4-585E-4E53-8F57-A66BFC6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137FD6F-9D3B-4E22-B100-3C15A42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B6A7359-7B09-4421-8F8F-2306FC1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D8F3872-3B8B-4050-BDFF-B1BC1E06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6A4A70A-070A-454E-AA54-A466F1E6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71B44F5-6FA2-4E3C-AE75-7E083945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907A043-B549-471A-BC5B-DDC339E4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3F336E8-58C8-47DC-B71A-8AE39E33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A45B390-9EE8-47AF-9E48-EEDB9CA3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2735EC8-980B-4712-A21E-5F057F55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04086BF-D6C1-407D-AB57-10C29D47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3D12D57-7BE6-48EC-89EA-99EFD67E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C4FD593-3D8F-45A7-BE80-A5BAD79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8BA26FC-5B65-4F3B-A2E7-8D246D89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C1AB9B9-0719-4BDA-8546-201173D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A5FED42-1D5E-4B73-ACDD-59E5D23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075E63F-890D-4720-AEE1-9A81596E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2B4F857-0A0E-45B0-95F0-AAC151DC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63B-2C1D-417D-83F3-04282AE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501-C00C-454A-A8F4-14C9A42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452-C829-4FFD-A978-4BBFB2A7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90A0-551C-4317-949A-137FE236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B07A1-33EB-420D-B103-AE17477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3EB0-771B-41F1-910D-A5A89C33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7.jpe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09.xml"/><Relationship Id="rId7" Type="http://schemas.openxmlformats.org/officeDocument/2006/relationships/slideLayout" Target="../slideLayouts/slideLayout410.xml"/><Relationship Id="rId8" Type="http://schemas.openxmlformats.org/officeDocument/2006/relationships/slideLayout" Target="../slideLayouts/slideLayout411.xml"/><Relationship Id="rId9" Type="http://schemas.openxmlformats.org/officeDocument/2006/relationships/slideLayout" Target="../slideLayouts/slideLayout412.xml"/><Relationship Id="rId10" Type="http://schemas.openxmlformats.org/officeDocument/2006/relationships/slideLayout" Target="../slideLayouts/slideLayout413.xml"/><Relationship Id="rId11" Type="http://schemas.openxmlformats.org/officeDocument/2006/relationships/slideLayout" Target="../slideLayouts/slideLayout414.xml"/><Relationship Id="rId12" Type="http://schemas.openxmlformats.org/officeDocument/2006/relationships/slideLayout" Target="../slideLayouts/slideLayout415.xml"/><Relationship Id="rId13" Type="http://schemas.openxmlformats.org/officeDocument/2006/relationships/slideLayout" Target="../slideLayouts/slideLayout416.xml"/><Relationship Id="rId14" Type="http://schemas.openxmlformats.org/officeDocument/2006/relationships/slideLayout" Target="../slideLayouts/slideLayout417.xml"/><Relationship Id="rId15" Type="http://schemas.openxmlformats.org/officeDocument/2006/relationships/slideLayout" Target="../slideLayouts/slideLayout418.xml"/><Relationship Id="rId16" Type="http://schemas.openxmlformats.org/officeDocument/2006/relationships/slideLayout" Target="../slideLayouts/slideLayout419.xml"/><Relationship Id="rId17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0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29.xml"/><Relationship Id="rId8" Type="http://schemas.openxmlformats.org/officeDocument/2006/relationships/slideLayout" Target="../slideLayouts/slideLayout530.xml"/><Relationship Id="rId9" Type="http://schemas.openxmlformats.org/officeDocument/2006/relationships/slideLayout" Target="../slideLayouts/slideLayout531.xml"/><Relationship Id="rId10" Type="http://schemas.openxmlformats.org/officeDocument/2006/relationships/slideLayout" Target="../slideLayouts/slideLayout532.xml"/><Relationship Id="rId11" Type="http://schemas.openxmlformats.org/officeDocument/2006/relationships/slideLayout" Target="../slideLayouts/slideLayout533.xml"/><Relationship Id="rId12" Type="http://schemas.openxmlformats.org/officeDocument/2006/relationships/slideLayout" Target="../slideLayouts/slideLayout534.xml"/><Relationship Id="rId13" Type="http://schemas.openxmlformats.org/officeDocument/2006/relationships/slideLayout" Target="../slideLayouts/slideLayout535.xml"/><Relationship Id="rId14" Type="http://schemas.openxmlformats.org/officeDocument/2006/relationships/slideLayout" Target="../slideLayouts/slideLayout536.xml"/><Relationship Id="rId15" Type="http://schemas.openxmlformats.org/officeDocument/2006/relationships/slideLayout" Target="../slideLayouts/slideLayout537.xml"/><Relationship Id="rId16" Type="http://schemas.openxmlformats.org/officeDocument/2006/relationships/slideLayout" Target="../slideLayouts/slideLayout538.xml"/><Relationship Id="rId17" Type="http://schemas.openxmlformats.org/officeDocument/2006/relationships/slideLayout" Target="../slideLayouts/slideLayout539.xml"/><Relationship Id="rId18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5CF0-16BF-46C7-9E88-B9493D8C5BA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AACF-F58B-4D59-BDE0-5F44BB4ED8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9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0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1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FAD1-DC43-4F8F-9C35-780DDE53598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9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2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3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4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8234-6840-4974-A494-02D4CC1BA6C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5181480" y="586728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19188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25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6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7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3FB6-75F7-4CBD-8F29-B842208203E6}" type="slidenum"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2AA-111A-4403-8151-52B78333B8EC}" type="slidenum">
              <a:rPr b="0" lang="fi-FI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D60B-FC43-4C14-AC1E-7483255D3DA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58920" y="260280"/>
            <a:ext cx="21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nip Single Corner Rectangle 1"/>
          <p:cNvSpPr/>
          <p:nvPr/>
        </p:nvSpPr>
        <p:spPr>
          <a:xfrm flipV="1">
            <a:off x="0" y="70920"/>
            <a:ext cx="8929800" cy="571680"/>
          </a:xfrm>
          <a:custGeom>
            <a:avLst/>
            <a:gdLst>
              <a:gd name="textAreaLeft" fmla="*/ 0 w 8929800"/>
              <a:gd name="textAreaRight" fmla="*/ 8787240 w 8929800"/>
              <a:gd name="textAreaTop" fmla="*/ 142920 h 571680"/>
              <a:gd name="textAreaBottom" fmla="*/ 572040 h 571680"/>
            </a:gdLst>
            <a:ahLst/>
            <a:rect l="textAreaLeft" t="textAreaTop" r="textAreaRight" b="textAreaBottom"/>
            <a:pathLst>
              <a:path w="8929688" h="571500">
                <a:moveTo>
                  <a:pt x="0" y="0"/>
                </a:moveTo>
                <a:lnTo>
                  <a:pt x="8643938" y="0"/>
                </a:lnTo>
                <a:lnTo>
                  <a:pt x="8929688" y="285750"/>
                </a:lnTo>
                <a:lnTo>
                  <a:pt x="8929688" y="571500"/>
                </a:lnTo>
                <a:lnTo>
                  <a:pt x="0" y="571500"/>
                </a:lnTo>
                <a:close/>
              </a:path>
            </a:pathLst>
          </a:custGeom>
          <a:gradFill rotWithShape="0">
            <a:gsLst>
              <a:gs pos="0">
                <a:srgbClr val="4d3900"/>
              </a:gs>
              <a:gs pos="100000">
                <a:srgbClr val="896700"/>
              </a:gs>
            </a:gsLst>
            <a:lin ang="2700000"/>
          </a:gradFill>
          <a:ln w="93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176C-0EB7-4E4E-AFD6-30B87BBFD661}" type="slidenum">
              <a:rPr b="0" lang="en-IE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dt" idx="3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ftr" idx="3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sldNum" idx="3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987C-CAE7-44DA-B7C9-7045939FEA2C}" type="slidenum">
              <a:rPr b="0" lang="fi-FI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823C-16AE-416E-BEEE-F62D8D748FB2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C65-9391-41C1-976E-86ADDF08D20B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69AD-72BF-48E2-B06F-72946C29CE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58B-2F6C-4F4E-AAB2-A7975B5824DE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3" descr="D:\_Active projects\7 - Microsoft Innovative Schools Toolkit update\Microsoft photography\Media Bank downloads\Source JPGs\edu_sing1_7197.jpg"/>
          <p:cNvPicPr/>
          <p:nvPr/>
        </p:nvPicPr>
        <p:blipFill>
          <a:blip r:embed="rId2"/>
          <a:srcRect l="23402" t="0" r="6394" b="0"/>
          <a:stretch/>
        </p:blipFill>
        <p:spPr>
          <a:xfrm>
            <a:off x="5019840" y="663480"/>
            <a:ext cx="3514680" cy="33372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3" descr="D:\_Active projects\7 - Microsoft Innovative Schools Toolkit update\Images\PowerPoint backgrounds\blueTitle.pn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2" descr="M:\Public Sector\FY10 Active Jobs\SLX00019_PiL_More Templates\STUDIO\Print\PiL_PPT\Partners-in-Learning_2_bL_r.png"/>
          <p:cNvPicPr/>
          <p:nvPr/>
        </p:nvPicPr>
        <p:blipFill>
          <a:blip r:embed="rId4"/>
          <a:stretch/>
        </p:blipFill>
        <p:spPr>
          <a:xfrm>
            <a:off x="457200" y="6146640"/>
            <a:ext cx="1766880" cy="40824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D:\_Active projects\7 - Microsoft Innovative Schools Toolkit update\Images\Action icons\actionLeavesBlue.png"/>
          <p:cNvPicPr/>
          <p:nvPr/>
        </p:nvPicPr>
        <p:blipFill>
          <a:blip r:embed="rId5">
            <a:lum bright="-8000"/>
          </a:blip>
          <a:stretch/>
        </p:blipFill>
        <p:spPr>
          <a:xfrm>
            <a:off x="3772080" y="647640"/>
            <a:ext cx="1247760" cy="144792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3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icture 3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2" descr="M:\Public Sector\FY10 Active Jobs\SLX00019_PiL_More Templates\STUDIO\Print\PiL_PPT\Partners-in-Learning_2_bL_r.png"/>
          <p:cNvPicPr/>
          <p:nvPr/>
        </p:nvPicPr>
        <p:blipFill>
          <a:blip r:embed="rId4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6"/>
    <p:sldLayoutId id="2147484092" r:id="rId7"/>
    <p:sldLayoutId id="2147484093" r:id="rId8"/>
    <p:sldLayoutId id="2147484094" r:id="rId9"/>
    <p:sldLayoutId id="2147484095" r:id="rId10"/>
    <p:sldLayoutId id="2147484096" r:id="rId11"/>
    <p:sldLayoutId id="2147484097" r:id="rId12"/>
    <p:sldLayoutId id="2147484098" r:id="rId13"/>
    <p:sldLayoutId id="2147484099" r:id="rId14"/>
    <p:sldLayoutId id="2147484100" r:id="rId15"/>
    <p:sldLayoutId id="2147484101" r:id="rId16"/>
    <p:sldLayoutId id="2147484102" r:id="rId17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9188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586728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Straight Connector 6"/>
          <p:cNvSpPr/>
          <p:nvPr/>
        </p:nvSpPr>
        <p:spPr>
          <a:xfrm flipH="1">
            <a:off x="34920" y="6453360"/>
            <a:ext cx="9144000" cy="0"/>
          </a:xfrm>
          <a:prstGeom prst="line">
            <a:avLst/>
          </a:prstGeom>
          <a:ln w="93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sldNum" idx="46"/>
          </p:nvPr>
        </p:nvSpPr>
        <p:spPr>
          <a:xfrm>
            <a:off x="697500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Straight Connector 6"/>
          <p:cNvSpPr/>
          <p:nvPr/>
        </p:nvSpPr>
        <p:spPr>
          <a:xfrm flipH="1">
            <a:off x="34920" y="6524640"/>
            <a:ext cx="9144000" cy="0"/>
          </a:xfrm>
          <a:prstGeom prst="line">
            <a:avLst/>
          </a:prstGeom>
          <a:ln w="93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0" name="TextBox 7"/>
          <p:cNvSpPr/>
          <p:nvPr/>
        </p:nvSpPr>
        <p:spPr>
          <a:xfrm>
            <a:off x="7740720" y="65516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F5CD8FA1-C90F-4E8B-A7FB-718928DBCC57}" type="slidenum">
              <a:rPr b="0" lang="en-GB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AD15-1019-4DF6-B3A7-C7B5B76E4C44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15BB-6FE0-4CC6-B761-9176D92AF176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466-02D9-4BD4-B46F-D9D0621C3AE8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6" name="Picture 3" descr="C:\Documents and Settings\rob.morrison\Desktop\PiL_PPT\Picture 20.png"/>
          <p:cNvPicPr/>
          <p:nvPr/>
        </p:nvPicPr>
        <p:blipFill>
          <a:blip r:embed="rId2"/>
          <a:srcRect l="7429" t="0" r="15435" b="11084"/>
          <a:stretch/>
        </p:blipFill>
        <p:spPr>
          <a:xfrm>
            <a:off x="4991040" y="582480"/>
            <a:ext cx="3514680" cy="349416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3" descr="D:\_Active projects\7 - Microsoft Innovative Schools Toolkit update\Images\PowerPoint backgrounds\blueTitle.pn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2" descr="M:\Public Sector\FY10 Active Jobs\SLX00019_PiL_More Templates\STUDIO\Print\PiL_PPT\Partners-in-Learning_2_bL_r.png"/>
          <p:cNvPicPr/>
          <p:nvPr/>
        </p:nvPicPr>
        <p:blipFill>
          <a:blip r:embed="rId4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6" descr="yellow-square.pn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3270240" y="582480"/>
            <a:ext cx="1720800" cy="1835280"/>
          </a:xfrm>
          <a:prstGeom prst="rect">
            <a:avLst/>
          </a:prstGeom>
          <a:ln w="0">
            <a:noFill/>
          </a:ln>
        </p:spPr>
      </p:pic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7"/>
    <p:sldLayoutId id="2147484222" r:id="rId8"/>
    <p:sldLayoutId id="2147484223" r:id="rId9"/>
    <p:sldLayoutId id="2147484224" r:id="rId10"/>
    <p:sldLayoutId id="2147484225" r:id="rId11"/>
    <p:sldLayoutId id="2147484226" r:id="rId12"/>
    <p:sldLayoutId id="2147484227" r:id="rId13"/>
    <p:sldLayoutId id="2147484228" r:id="rId14"/>
    <p:sldLayoutId id="2147484229" r:id="rId15"/>
    <p:sldLayoutId id="2147484230" r:id="rId16"/>
    <p:sldLayoutId id="2147484231" r:id="rId17"/>
    <p:sldLayoutId id="2147484232" r:id="rId18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95E1-0795-406A-81C3-F00EA0AE8C5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629-7AEE-47DB-B10D-BB9DBDDE8F5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B7EC-A310-4520-BBD8-72CEB44F14BD}" type="slidenum">
              <a:rPr b="0" lang="fi-FI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1258920" y="260280"/>
            <a:ext cx="21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79E-9810-403A-872B-12A9ED90392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E450-7A1E-4A7A-85C5-7B02685FBB3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F0FB-C62D-4EC7-8D09-DBAAE318E9F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0734-8E3E-45DE-AD7C-0230CEB853A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A3A8-93AD-41EB-8EC3-BF6F3500879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ED75-FCEA-4359-A561-CDE61305FED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A98-CBA8-4496-BB28-885DD29CCE6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2ED6-B16A-4208-A232-B06B971F948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C71-FE5B-4289-BB9D-4E57333C839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C54D-A06C-4321-833B-4C1666A70B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ubbl.us/" TargetMode="External"/><Relationship Id="rId2" Type="http://schemas.openxmlformats.org/officeDocument/2006/relationships/hyperlink" Target="http://scratch.mit.edu/" TargetMode="External"/><Relationship Id="rId3" Type="http://schemas.openxmlformats.org/officeDocument/2006/relationships/hyperlink" Target="http://scratch.mit.edu/" TargetMode="External"/><Relationship Id="rId4" Type="http://schemas.openxmlformats.org/officeDocument/2006/relationships/hyperlink" Target="http://phet.colorado.edu/" TargetMode="External"/><Relationship Id="rId5" Type="http://schemas.openxmlformats.org/officeDocument/2006/relationships/hyperlink" Target="http://phet.colorado.edu/" TargetMode="External"/><Relationship Id="rId6" Type="http://schemas.openxmlformats.org/officeDocument/2006/relationships/hyperlink" Target="http://www.photosynth.com/" TargetMode="External"/><Relationship Id="rId7" Type="http://schemas.openxmlformats.org/officeDocument/2006/relationships/hyperlink" Target="http://bit.ly/hWZFY9" TargetMode="External"/><Relationship Id="rId8" Type="http://schemas.openxmlformats.org/officeDocument/2006/relationships/hyperlink" Target="http://bit.ly/hWZFY9" TargetMode="External"/><Relationship Id="rId9" Type="http://schemas.openxmlformats.org/officeDocument/2006/relationships/slideLayout" Target="../slideLayouts/slideLayout4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L9Wu2kWwSY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4" name="Picture 4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ful links referr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borative mindmapping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ubbl.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imation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cratch.mit.edu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ulation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het.colorado.edu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D Environment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photosynth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gital storytelling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bit.ly/hWZFY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3930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Marble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721188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lay the marble drop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4" name="Picture 4" descr="MarblePicture"/>
          <p:cNvPicPr/>
          <p:nvPr/>
        </p:nvPicPr>
        <p:blipFill>
          <a:blip r:embed="rId1"/>
          <a:stretch/>
        </p:blipFill>
        <p:spPr>
          <a:xfrm>
            <a:off x="5456160" y="2600280"/>
            <a:ext cx="351468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279000" y="1736280"/>
            <a:ext cx="8502840" cy="455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alibri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structure of card that allows a marble to trave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height of a piece of A4 paper to the desk top – taking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ximum amount of time possib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 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have 20 minutes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longest travel time wins –judges decision final!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are provided with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4 card x 6 ,  sticky tape, scissors, marb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od luck!!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-18108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agine it’s the year 2030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ould a science classroom look like in the year 203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ould science learning look like in year 203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e one thing you would change in the way you learn scienc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toda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o be closer to your 2030 vi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3" descr=""/>
          <p:cNvPicPr/>
          <p:nvPr/>
        </p:nvPicPr>
        <p:blipFill>
          <a:blip r:embed="rId1"/>
          <a:stretch/>
        </p:blipFill>
        <p:spPr>
          <a:xfrm>
            <a:off x="7596360" y="465120"/>
            <a:ext cx="139212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Text Box 2"/>
          <p:cNvSpPr/>
          <p:nvPr/>
        </p:nvSpPr>
        <p:spPr>
          <a:xfrm>
            <a:off x="4030200" y="133020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0" name="Rectangle 3"/>
          <p:cNvSpPr/>
          <p:nvPr/>
        </p:nvSpPr>
        <p:spPr>
          <a:xfrm>
            <a:off x="2987640" y="278136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dev@imagineeducation.ne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1" name="Rectangle 4"/>
          <p:cNvSpPr/>
          <p:nvPr/>
        </p:nvSpPr>
        <p:spPr>
          <a:xfrm>
            <a:off x="1258920" y="260280"/>
            <a:ext cx="21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342" name="Picture 5" descr="logo"/>
          <p:cNvPicPr/>
          <p:nvPr/>
        </p:nvPicPr>
        <p:blipFill>
          <a:blip r:embed="rId1"/>
          <a:stretch/>
        </p:blipFill>
        <p:spPr>
          <a:xfrm>
            <a:off x="108000" y="5892840"/>
            <a:ext cx="165564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/>
          </p:nvPr>
        </p:nvSpPr>
        <p:spPr>
          <a:xfrm>
            <a:off x="971280" y="98100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2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My goal in life is to find ways in which children can use technology as a constructive medium </a:t>
            </a:r>
            <a:r>
              <a:rPr b="1" lang="en-US" sz="3400" spc="-1" strike="noStrike">
                <a:solidFill>
                  <a:srgbClr val="ff3300"/>
                </a:solidFill>
                <a:latin typeface="Tw Cen MT"/>
              </a:rPr>
              <a:t>to do things that they could not do before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; to do things at a level of </a:t>
            </a:r>
            <a:r>
              <a:rPr b="1" lang="en-US" sz="3400" spc="-1" strike="noStrike">
                <a:solidFill>
                  <a:srgbClr val="ff3300"/>
                </a:solidFill>
                <a:latin typeface="Tw Cen MT"/>
              </a:rPr>
              <a:t>complexity that was not previously accessible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 to children”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of. Seymour Papert 1998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6" name="Text Box 3"/>
          <p:cNvSpPr/>
          <p:nvPr/>
        </p:nvSpPr>
        <p:spPr>
          <a:xfrm>
            <a:off x="555948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/>
          </p:nvPr>
        </p:nvSpPr>
        <p:spPr>
          <a:xfrm>
            <a:off x="971280" y="98100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2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“</a:t>
            </a: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My goal in life is to find ways in which children can use technology as a constructive medium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3400" spc="-1" strike="noStrike">
                <a:solidFill>
                  <a:srgbClr val="ff3300"/>
                </a:solidFill>
                <a:latin typeface="Tw Cen MT"/>
              </a:rPr>
              <a:t>to do things that they could not do before</a:t>
            </a: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; to do things at a level of complexity that was not previously accessible to children”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Prof. Seymour Papert 1998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8" name="Text Box 3"/>
          <p:cNvSpPr/>
          <p:nvPr/>
        </p:nvSpPr>
        <p:spPr>
          <a:xfrm>
            <a:off x="555948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/>
          </p:nvPr>
        </p:nvSpPr>
        <p:spPr>
          <a:xfrm>
            <a:off x="971280" y="69228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The Moment!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0" name="Text Box 3"/>
          <p:cNvSpPr/>
          <p:nvPr/>
        </p:nvSpPr>
        <p:spPr>
          <a:xfrm>
            <a:off x="555948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1" name="Text Box 4"/>
          <p:cNvSpPr/>
          <p:nvPr/>
        </p:nvSpPr>
        <p:spPr>
          <a:xfrm>
            <a:off x="6943680" y="6564240"/>
            <a:ext cx="21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sentation by Bruce Dix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2" name="Rectangle 5"/>
          <p:cNvSpPr/>
          <p:nvPr/>
        </p:nvSpPr>
        <p:spPr>
          <a:xfrm>
            <a:off x="4859280" y="5805360"/>
            <a:ext cx="428472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313" name="Picture 6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616720" cy="451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228600" y="19188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Tw Cen MT"/>
            </a:endParaRPr>
          </a:p>
        </p:txBody>
      </p:sp>
      <p:pic>
        <p:nvPicPr>
          <p:cNvPr id="2315" name="" descr=""/>
          <p:cNvPicPr/>
          <p:nvPr/>
        </p:nvPicPr>
        <p:blipFill>
          <a:blip r:embed="rId1"/>
          <a:stretch/>
        </p:blipFill>
        <p:spPr>
          <a:xfrm>
            <a:off x="228600" y="1294920"/>
            <a:ext cx="8686800" cy="441972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3" descr=""/>
          <p:cNvPicPr/>
          <p:nvPr/>
        </p:nvPicPr>
        <p:blipFill>
          <a:blip r:embed="rId2"/>
          <a:stretch/>
        </p:blipFill>
        <p:spPr>
          <a:xfrm>
            <a:off x="835200" y="993600"/>
            <a:ext cx="7261200" cy="79012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4"/>
          <p:cNvSpPr/>
          <p:nvPr/>
        </p:nvSpPr>
        <p:spPr>
          <a:xfrm>
            <a:off x="5072040" y="5786280"/>
            <a:ext cx="4071960" cy="10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0" name="Picture 4" descr=""/>
          <p:cNvPicPr/>
          <p:nvPr/>
        </p:nvPicPr>
        <p:blipFill>
          <a:blip r:embed="rId1"/>
          <a:srcRect l="11075" t="17227" r="11075" b="9844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3" descr=""/>
          <p:cNvPicPr/>
          <p:nvPr/>
        </p:nvPicPr>
        <p:blipFill>
          <a:blip r:embed="rId2"/>
          <a:stretch/>
        </p:blipFill>
        <p:spPr>
          <a:xfrm>
            <a:off x="357120" y="1295280"/>
            <a:ext cx="842976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6" name="Picture 2" descr=""/>
          <p:cNvPicPr/>
          <p:nvPr/>
        </p:nvPicPr>
        <p:blipFill>
          <a:blip r:embed="rId2"/>
          <a:stretch/>
        </p:blipFill>
        <p:spPr>
          <a:xfrm>
            <a:off x="666720" y="628560"/>
            <a:ext cx="7810560" cy="560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9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07920"/>
            <a:ext cx="7854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2:33:49Z</dcterms:created>
  <dc:creator>RS</dc:creator>
  <dc:description/>
  <dc:language>en-US</dc:language>
  <cp:lastModifiedBy> </cp:lastModifiedBy>
  <dcterms:modified xsi:type="dcterms:W3CDTF">2011-05-04T11:51:44Z</dcterms:modified>
  <cp:revision>535</cp:revision>
  <dc:subject/>
  <dc:title>Slide 1</dc:title>
</cp:coreProperties>
</file>